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8A3-56D0-4FB9-B323-2482A3B0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02D-05E3-4DE1-92F6-9C5EB9E0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A0A3-99F0-40E4-8F9D-6DD9C59C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FFBA-A08E-43CE-BC71-7F27F089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8016-C925-4B3C-BD6D-A4301EA0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C909-D050-4DCF-8D37-16A1E3E5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9D29-7538-40C4-8298-965CDF0F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74BE-44B6-4750-8032-26A8AEF5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D65D-F24E-4AA2-8D32-EF7B6AA4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E7B7-2B69-431F-9831-096260E1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9EE5-8D77-40D3-8845-5D8F2AAE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10C-FFEE-408D-A4C5-8916A0A2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595F-2EA2-44D5-B109-C739264B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7450-C9A4-4C94-906C-79A449D8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537C-234A-4B66-90CA-B76E9A8D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B82B-A370-4123-9DE6-9895A5BB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4AFC-FBEF-477D-9EAE-93751E43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AA088-1D43-4F99-8A4B-D3370637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5439A-7691-4C6C-8C47-64E61074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6E2A1-7B89-4692-AB0D-1B8C703C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BE892-4C05-4F92-8B41-65412DEA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33920-A02A-47DC-9236-FA3A8CF0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B9C-565B-4BCF-9DD7-A059C422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11018-B3A8-4295-9EF4-3F8EF8C5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4D328B-B1F4-4DE3-BF3C-323D7987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A66A2-7A64-4D51-A105-780B6DA6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4C35B8-CB16-4925-B10E-502672D7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B3C0CD-F89D-47D4-8FF4-F875FF26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08290-086E-4C0B-A060-382CBB25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8CC3C-E23B-4D36-A1CA-E9CA2BCE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CBE771-8C0C-44B0-8392-EE68450F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FDD69D-1294-4A93-B920-7A0369CA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1D6512-E765-4996-B129-4C01ADEB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FCB-1A34-40E7-AD48-3BAD8354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DD0A26-265B-4D2C-925F-5616EA34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5F1EFA-B26F-43AB-8511-68264C2F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165306-BA49-42EA-8820-8D23856A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097673-34E8-4364-A179-7E13B3A9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41D29E-C266-4CD2-BDE1-052EA974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412479-D6FB-40F4-8D7C-E43A4842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84D967-B238-4E46-B044-2B47BDE9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CB684A-47F7-4317-9161-F8AE0DD2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512743-313A-4BEF-AF74-472BB8D1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B15B28-A81F-4C62-8A2E-30B3DBAA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B6F-D1D7-4D1B-B82D-CEB7ACA9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7FE0DE-6C64-4AE4-96AD-FAE62025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FC4B3-18A7-407C-A690-4306B0C9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802FF3-AC02-42D8-B0C6-4F14DFE9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37424-513A-4DF9-85D2-2200A8EC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E7AD6F-729E-4AB4-8257-A6E788E8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116A5-7837-4D04-ADC0-EC864904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99DB26-5E59-4E2A-9D41-7920A856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205D9D-369E-4300-A998-5337DB77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81009-D284-4E27-8763-632B7A02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F6EAC-6C50-4B6E-ACC0-32FF20CC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E157-166E-4BAC-B59C-0762590F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71383-B5BB-4B76-9482-327F57E7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8BF0E-3AD1-4C1A-A43A-967DCDCA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A3D71-FCF0-4FCC-B9AF-36665602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538A2-9CBB-4BE3-9F40-7C3322C7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60133-05CC-4837-BA7E-C5A75A35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18D01-ACA7-41B6-A29E-FC125A6A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C4C25-F95D-4E48-A783-939D8732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6CBD1-0A7A-471A-9300-75D11381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F5235-86BE-4E77-94F6-9AE2B62C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A72B0-2E73-43F8-9501-EDC01FC4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B73F-FED2-4045-992A-06E15A22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76ACE-2248-4565-89DA-22BA5956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F6300-355A-4970-87D0-4E171063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9800C-D6EA-4ED8-AF76-5B3FE479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AC1C34-0AFA-41A5-A507-AEAE6B9F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0FFFCA-519C-4A0D-BF7D-56074756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A83E70-2590-455D-B27C-79A8D3C1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F1D0AA-D316-4DDC-8BC3-11C4E9A3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CFA5FE-CBA0-48A2-8481-6413A2E5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8D10FF-07C2-4F59-802C-3AFDE04F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16D24-69F4-43B1-8D1E-D6BCA5E3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29FF-6D60-4E20-B0CE-6D839D65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CBC884-0247-4ACB-80A6-E3E693B7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FA6874-3F6F-43B9-94C7-68A2E2D0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500C2A-BD27-4C9E-BD5A-2AC7456B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5FFE36-5E08-4D78-9D96-A36825AD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7C515B-E5A7-4AB3-B1D0-22733AFC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BDDDA-FB6E-4E8E-AB69-7AC1C2BB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C72F5-458B-4121-BEBD-2AF6158A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52D7F-ABA1-44A6-81AC-296541D1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24127-B274-416C-9839-4C0643E1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29C50-C8F4-476C-AE60-A0732A10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1F46-33EC-4F13-9329-D3E41A2B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67F25-A064-4F0C-9DF4-17B90ED4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FEE8F-803F-4954-AAEC-A6AB638D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CB6B4-ABB7-419B-9AC4-7388A178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A3260-3019-44C8-A987-C4839478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E0B7A-5FA1-44FA-A5D9-E7241502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AC324-DBE6-4E4A-9B52-FD9F783B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6F276-5FCD-4152-BAF9-33CA5E41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H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HN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B755-521B-4EF0-8F46-8AFE8A2A2376}" type="slidenum">
              <a:rPr b="1" lang="es-HN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HN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HN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7AEC-06A4-4CFC-855D-D822D22F3B7B}" type="slidenum">
              <a:rPr b="1" lang="es-HN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H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HN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BB06-CC8A-4061-9D15-676C7A5AB088}" type="slidenum">
              <a:rPr b="1" lang="es-HN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H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HN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C1DC-35C9-4DAA-BED1-3A287F024837}" type="slidenum">
              <a:rPr b="1" lang="es-HN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H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HN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FF1A-367E-4B09-AEB3-ACFC7E60F4AF}" type="slidenum">
              <a:rPr b="1" lang="es-HN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H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H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DB10-19DC-4E44-9606-5A976E6316C2}" type="slidenum">
              <a:rPr b="1" lang="es-HN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H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HN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6489-4D68-4CEB-893A-48E58C80DD2A}" type="slidenum">
              <a:rPr b="1" lang="es-HN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H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HN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9483-7564-41BA-8B58-544DFCA1F021}" type="slidenum">
              <a:rPr b="1" lang="es-HN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ffffff"/>
                </a:solidFill>
                <a:latin typeface="Tw Cen MT"/>
              </a:rPr>
              <a:t>CUANDO EL DINERO REMUER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pic>
        <p:nvPicPr>
          <p:cNvPr id="351" name="Subtitle 2" descr=""/>
          <p:cNvPicPr/>
          <p:nvPr/>
        </p:nvPicPr>
        <p:blipFill>
          <a:blip r:embed="rId1"/>
          <a:stretch/>
        </p:blipFill>
        <p:spPr>
          <a:xfrm>
            <a:off x="2309760" y="5956200"/>
            <a:ext cx="6993000" cy="852480"/>
          </a:xfrm>
          <a:prstGeom prst="rect">
            <a:avLst/>
          </a:prstGeom>
          <a:ln w="0">
            <a:noFill/>
          </a:ln>
        </p:spPr>
      </p:pic>
      <p:sp>
        <p:nvSpPr>
          <p:cNvPr id="352" name="3 Rectángulo"/>
          <p:cNvSpPr/>
          <p:nvPr/>
        </p:nvSpPr>
        <p:spPr>
          <a:xfrm>
            <a:off x="2627280" y="260280"/>
            <a:ext cx="3889440" cy="9144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Aharoni"/>
                <a:ea typeface="Aharoni"/>
              </a:rPr>
              <a:t>DIVISIÓN INTERAMER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900" spc="-1" strike="noStrike">
                <a:solidFill>
                  <a:srgbClr val="775f55"/>
                </a:solidFill>
                <a:latin typeface="Tw Cen MT"/>
              </a:rPr>
              <a:t>“</a:t>
            </a:r>
            <a:r>
              <a:rPr b="0" lang="es-HN" sz="2900" spc="-1" strike="noStrike">
                <a:solidFill>
                  <a:srgbClr val="775f55"/>
                </a:solidFill>
                <a:latin typeface="Tw Cen MT"/>
              </a:rPr>
              <a:t>Un buen arrepentimiento es la mejor medicina que tienen las enfermedades del alma”.</a:t>
            </a:r>
            <a:endParaRPr b="0" lang="en-US" sz="29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2" descr="Cervates jauregui.jpg"/>
          <p:cNvPicPr/>
          <p:nvPr/>
        </p:nvPicPr>
        <p:blipFill>
          <a:blip r:embed="rId1"/>
          <a:stretch/>
        </p:blipFill>
        <p:spPr>
          <a:xfrm>
            <a:off x="3000240" y="1643040"/>
            <a:ext cx="33577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900" spc="-1" strike="noStrike">
                <a:solidFill>
                  <a:srgbClr val="775f55"/>
                </a:solidFill>
                <a:latin typeface="Tw Cen MT"/>
              </a:rPr>
              <a:t>“</a:t>
            </a:r>
            <a:r>
              <a:rPr b="0" lang="es-HN" sz="2900" spc="-1" strike="noStrike">
                <a:solidFill>
                  <a:srgbClr val="775f55"/>
                </a:solidFill>
                <a:latin typeface="Tw Cen MT"/>
              </a:rPr>
              <a:t>Que los glaciares del olvido me arrastren y me pierdan, despiadados”.</a:t>
            </a:r>
            <a:endParaRPr b="0" lang="en-US" sz="29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2" name="Picture 2" descr="borges2"/>
          <p:cNvPicPr/>
          <p:nvPr/>
        </p:nvPicPr>
        <p:blipFill>
          <a:blip r:embed="rId1"/>
          <a:stretch/>
        </p:blipFill>
        <p:spPr>
          <a:xfrm>
            <a:off x="1643040" y="1571760"/>
            <a:ext cx="60008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900" spc="-1" strike="noStrike">
                <a:solidFill>
                  <a:srgbClr val="775f55"/>
                </a:solidFill>
                <a:latin typeface="Tw Cen MT"/>
              </a:rPr>
              <a:t>“</a:t>
            </a:r>
            <a:r>
              <a:rPr b="0" lang="es-HN" sz="2900" spc="-1" strike="noStrike">
                <a:solidFill>
                  <a:srgbClr val="775f55"/>
                </a:solidFill>
                <a:latin typeface="Tw Cen MT"/>
              </a:rPr>
              <a:t>El infierno no está en el remordimiento, está en el corazón vacío”.</a:t>
            </a:r>
            <a:endParaRPr b="0" lang="en-US" sz="29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4" name="Picture 2" descr="gibran02"/>
          <p:cNvPicPr/>
          <p:nvPr/>
        </p:nvPicPr>
        <p:blipFill>
          <a:blip r:embed="rId1"/>
          <a:stretch/>
        </p:blipFill>
        <p:spPr>
          <a:xfrm>
            <a:off x="2857680" y="1600200"/>
            <a:ext cx="35715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900" spc="-1" strike="noStrike">
                <a:solidFill>
                  <a:srgbClr val="775f55"/>
                </a:solidFill>
                <a:latin typeface="Tw Cen MT"/>
              </a:rPr>
              <a:t>“</a:t>
            </a:r>
            <a:r>
              <a:rPr b="0" lang="es-HN" sz="2900" spc="-1" strike="noStrike">
                <a:solidFill>
                  <a:srgbClr val="775f55"/>
                </a:solidFill>
                <a:latin typeface="Tw Cen MT"/>
              </a:rPr>
              <a:t>No aguardemos, para arrepentirnos, a que nuestras faltas nos hayan castigado”.</a:t>
            </a:r>
            <a:endParaRPr b="0" lang="en-US" sz="29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6" name="ipfGBumq1eRd6-fjM:" descr="Louis-Langree_HRES"/>
          <p:cNvPicPr/>
          <p:nvPr/>
        </p:nvPicPr>
        <p:blipFill>
          <a:blip r:embed="rId1"/>
          <a:stretch/>
        </p:blipFill>
        <p:spPr>
          <a:xfrm>
            <a:off x="2786040" y="1643040"/>
            <a:ext cx="3714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El dinero de Dios ha de ser empleado para realizar, de la manera en que él lo indica, la obra que él ha declarado que debe ser hecha en nuestro mundo”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s-SV" sz="2900" spc="-1" strike="noStrike">
                <a:solidFill>
                  <a:srgbClr val="000000"/>
                </a:solidFill>
                <a:latin typeface="Tw Cen MT"/>
              </a:rPr>
              <a:t>El evangelismo, pág. 6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   “</a:t>
            </a: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Si los medios fluyeran a la tesorería exactamente de acuerdo con el plan de Dios, la décima parte de todas las ganancias, habría abundancia para llevar adelante su obra”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s-SV" sz="2900" spc="-1" strike="noStrike">
                <a:solidFill>
                  <a:srgbClr val="000000"/>
                </a:solidFill>
                <a:latin typeface="Tw Cen MT"/>
              </a:rPr>
              <a:t>El evangelismo, pág. 18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HN" sz="4000" spc="-1" strike="noStrike">
                <a:solidFill>
                  <a:srgbClr val="000000"/>
                </a:solidFill>
                <a:latin typeface="Tw Cen MT"/>
              </a:rPr>
              <a:t>Entonces Judas arrojó el dinero en el santuario y salió de allí”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200" spc="-1" strike="noStrike">
                <a:solidFill>
                  <a:srgbClr val="000000"/>
                </a:solidFill>
                <a:latin typeface="Tw Cen MT"/>
              </a:rPr>
              <a:t>(Mateo 27:5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HN" sz="3600" spc="-1" strike="noStrike">
                <a:solidFill>
                  <a:srgbClr val="000000"/>
                </a:solidFill>
                <a:latin typeface="Tw Cen MT"/>
              </a:rPr>
              <a:t>Los jefes de los sacerdotes recogieron las monedas y dijeron: La ley no permite echar esto al tesoro, porque es precio de sangre”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000000"/>
                </a:solidFill>
                <a:latin typeface="Tw Cen MT"/>
              </a:rPr>
              <a:t>(Mateo 27:6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775f55"/>
                </a:solidFill>
                <a:latin typeface="Tw Cen MT"/>
              </a:rPr>
              <a:t>“</a:t>
            </a:r>
            <a:r>
              <a:rPr b="0" lang="es-HN" sz="3200" spc="-1" strike="noStrike">
                <a:solidFill>
                  <a:srgbClr val="775f55"/>
                </a:solidFill>
                <a:latin typeface="Tw Cen MT"/>
              </a:rPr>
              <a:t>Este es el castigo más importante del culpable: nunca ser absuelto en el tribunal de su propia conciencia”.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0" name="Picture 2" descr="juvenal"/>
          <p:cNvPicPr/>
          <p:nvPr/>
        </p:nvPicPr>
        <p:blipFill>
          <a:blip r:embed="rId1"/>
          <a:stretch/>
        </p:blipFill>
        <p:spPr>
          <a:xfrm>
            <a:off x="2643120" y="1714680"/>
            <a:ext cx="40006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775f55"/>
                </a:solidFill>
                <a:latin typeface="Tw Cen MT"/>
              </a:rPr>
              <a:t>“</a:t>
            </a:r>
            <a:r>
              <a:rPr b="0" lang="es-HN" sz="3200" spc="-1" strike="noStrike">
                <a:solidFill>
                  <a:srgbClr val="775f55"/>
                </a:solidFill>
                <a:latin typeface="Tw Cen MT"/>
              </a:rPr>
              <a:t>Conciencia: voz interior que nos avisa que alguien puede estar mirando”.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2" name="Picture 2" descr="Jmencken"/>
          <p:cNvPicPr/>
          <p:nvPr/>
        </p:nvPicPr>
        <p:blipFill>
          <a:blip r:embed="rId1"/>
          <a:stretch/>
        </p:blipFill>
        <p:spPr>
          <a:xfrm>
            <a:off x="3214800" y="1643040"/>
            <a:ext cx="31431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ebddc3"/>
                </a:solidFill>
                <a:latin typeface="Tw Cen MT"/>
              </a:rPr>
              <a:t>REMORDIMIENTO NO ES ARREPENTIMIENTO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600" spc="-1" strike="noStrike">
                <a:solidFill>
                  <a:srgbClr val="ffffff"/>
                </a:solidFill>
                <a:latin typeface="Tw Cen MT"/>
              </a:rPr>
              <a:t>Infierno o medicina para el alma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HN" sz="4000" spc="-1" strike="noStrike">
                <a:solidFill>
                  <a:srgbClr val="000000"/>
                </a:solidFill>
                <a:latin typeface="Tw Cen MT"/>
              </a:rPr>
              <a:t>Cuando Judas, el que lo había traicionado, vio que habían condenado a Jesús, sintió remordimiento”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200" spc="-1" strike="noStrike">
                <a:solidFill>
                  <a:srgbClr val="000000"/>
                </a:solidFill>
                <a:latin typeface="Tw Cen MT"/>
              </a:rPr>
              <a:t>(Mateo 27:3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775f55"/>
                </a:solidFill>
                <a:latin typeface="Tw Cen MT"/>
              </a:rPr>
              <a:t>“</a:t>
            </a:r>
            <a:r>
              <a:rPr b="0" lang="es-HN" sz="3200" spc="-1" strike="noStrike">
                <a:solidFill>
                  <a:srgbClr val="775f55"/>
                </a:solidFill>
                <a:latin typeface="Tw Cen MT"/>
              </a:rPr>
              <a:t>El remordimiento es el único dolor del alma que el tiempo y la reflexión no logran calmar jamás”.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8" name="Picture 2" descr="180px-Madame_de_Sta%C3%ABl"/>
          <p:cNvPicPr/>
          <p:nvPr/>
        </p:nvPicPr>
        <p:blipFill>
          <a:blip r:embed="rId1"/>
          <a:stretch/>
        </p:blipFill>
        <p:spPr>
          <a:xfrm>
            <a:off x="2786040" y="1571760"/>
            <a:ext cx="37148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23:04:13Z</dcterms:created>
  <dc:creator>Javier Mejía</dc:creator>
  <dc:description/>
  <dc:language>en-US</dc:language>
  <cp:lastModifiedBy>Javier</cp:lastModifiedBy>
  <dcterms:modified xsi:type="dcterms:W3CDTF">2011-02-27T18:01:58Z</dcterms:modified>
  <cp:revision>31</cp:revision>
  <dc:subject/>
  <dc:title>CUANDO EL DINERO REMUERDE</dc:title>
</cp:coreProperties>
</file>